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96F-DEAF-400C-BF42-A166E174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AEA-1C2B-4F4F-B29E-57F9F53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8C43-3F87-4914-ACBC-8EDC7E1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6840C-4777-4E54-9CD5-D98CC594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20828-E600-4B4D-9557-1AC8BB6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C8A50-015C-4F78-9B8E-B528681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C9B9-741F-4F8E-A722-9C77D1E3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3E7F4-4155-40D4-97C4-5887609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9A6CB-B538-43D8-802D-2469D21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ABA6F-41DB-47AF-9AF4-9323BC0A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86F6E-8915-4213-9EDD-1207633C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F726C-8BBC-42D5-B6D3-D40EA4F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AFE-CD82-417D-8940-8EFBFB15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507D2-88BC-4B55-9064-E610A7D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25FC0-317C-4218-84AB-BD0A9DE4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F412-4A4F-444E-AE25-1FEA045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23F7-A9F5-4BC2-9B21-7057BDF5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59237-55A1-4B9B-BAB9-BF4D3EC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E49F0-381D-4A09-BD1F-569A45F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85B4-A171-4162-90D6-656D94F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9C8D7-A8FA-4784-92EF-7E5475B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95E97-15F4-4B91-BF99-72CECFF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4DACD-003A-4122-A51C-861C24A2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C1A-8C51-4132-B2FE-5A752088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3D406-5278-4DF6-9737-46E9491F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3FDB8-21AA-466E-8CFC-59D763BB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5115-78FE-4F74-8558-D32F876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46411-7A50-4EE6-8400-2CBBD7D9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5D66A-7EE2-4208-BC2F-AD60AF8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A92C-5E92-4395-BB13-E72AB7E7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8DAAA-BB71-4ADC-9FE5-82182FA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EB22B-C062-4A28-B55D-BABDFA09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0914-4107-4B2E-BC60-7823B70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3CE5-EA7B-4DB7-A864-FF86E9D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6AE-0B44-480D-9C66-0E25CF18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8E9B5-4D56-4EF3-8A57-5F3E1EAB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DEDCE-1A34-4FC7-ABD2-0302F86D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EAFB2-3D49-464F-B9B7-D863F4D2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D2293-0B91-4B50-AF3E-383176F2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7E6F1-D511-4B4C-9430-3AF06AA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14B74-A335-46FF-B0F5-0525354B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969D4-23DF-4AA0-83ED-D40085A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3086-8893-4BEA-B98E-5C29B850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A45CF-B4B7-4341-B48F-E6136C26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7A189-7308-420B-9F60-3D77E49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B669-7A0A-44CC-B684-B71BB4C5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88AD9-7E58-4ED8-A468-18FABB5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65E14-52A1-403C-9BB8-B766F61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E6519-249E-462C-A451-7A94F65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F0E32-FF49-4D4E-8DCC-50D380DB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07FA9-9CB6-4AA9-9805-C3AF7804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39D66-1FCC-4D1C-B43A-5B39A8F3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470F8-9EB2-4494-9F85-A126CFA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A1F68-0540-4D34-ACF0-66A4E7B9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1B03F-9728-4C94-82BB-57F93A47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905B1-6BFC-4DAD-835C-FF25D79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91C3-8D39-4DD6-9C28-FCAAC45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38F20-FB73-4C4D-8BD3-29B2E2A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B2C77-35D9-4B1B-B568-50D6172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BCEFC-A578-4607-8C1B-0A2FDD3C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39720-B47B-4A89-AABA-F5BFAFE6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6F31B-0F20-49C6-86C0-8BAFDDB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7A746-1660-4C40-A14E-C2F97F84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93DAD-56A5-438A-9A31-F843029B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F780A-E4F8-46E9-9ACD-75D566A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55207-1BD7-4C3D-9912-1E6F36F0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E83CD-8460-4A3B-901D-DC7BBCD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28DC-4FB7-4B32-A60C-02A9C981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EC71F-1D19-4A33-9A74-07E41FB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F914F-6244-458B-90CD-CF452155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81DF8-88DE-4CD0-AC2B-9C1001D4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A91D0-9F95-4276-AA07-983702A4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22EBB-A1D2-4AA5-8567-2F960AE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1F08C-4E73-4036-9E74-4D4E014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288FF-9B8A-4C9C-BEB7-AE4B12FA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2A597-7C06-4F32-9C29-0496F1CC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28DA6-C70B-4CE2-B80F-848E06F0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114A7-2FD0-48F1-BBE7-CD609F29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7976-DEE3-414C-B560-15CD97B2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89A14-1D46-4C84-B3B5-9FF7E47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947B4-12CD-4335-AC4E-5558CE81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1E517-3EA5-4248-8CFA-8DD59A3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B8F42-5D50-4D97-99B8-1E09542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88493-A810-46F9-B8CD-085C392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BE21C-3449-4FF0-8239-BCA43AF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6C236-BEC4-4DA1-A3F5-223BCB8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B75FC-ED6B-41F2-8F35-EDA0283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13CEE-3094-44CD-938C-ACC27684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BCF8F-A369-48F1-B09F-15678F61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5AA6-B7CE-4C94-BFD0-678672F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C1C20-703D-46DA-8337-DA3AFB4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95091-F5BA-48A4-9CFA-AA7C3397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9F36F-7D92-475E-9426-19DDB8B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D97A2-1237-400D-97AB-9AB9B9C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CA0E3-CF76-413B-BA05-23B165C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AD6CE-70F3-4DF5-A7DE-B1B7A8CA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7A3FF-9FBC-43C4-9CCD-7243D2A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71E05-D762-4156-ABE8-4A6EA85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B13B8-F9D6-46C4-AD20-0342280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5DF6A-5ECC-4C18-BCAC-1DCC3CB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3FFB-2BF3-4152-8E0E-1B2D65B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58AE5-227B-483D-AD47-4520F9C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A1D57-3360-46C6-B54E-1D650C1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4B858-8419-4F6D-A9F1-81776435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4C4AE-13A2-4556-94EC-35D994C8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B29C2-B895-4528-948A-3DA49E7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FF7C2-7C65-4B6C-9BD4-E516AFE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5F1A6-E4EF-4085-AEDF-022B01A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B4858-A74A-495B-BB24-6E84FF1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9A7B6-5C2C-422C-BBA9-155268E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3CB30-F868-40C5-AC91-028EF36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8A9-B399-4ED5-AB6E-DB827A5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FC4C-1991-462A-99EE-F32198D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D012B-B913-4224-AF2D-93AADB5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36C86-529D-4BD7-9BF5-EF50AEB8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D22C8-8D45-469C-BF24-2665B46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53741-D0FE-40A1-AF97-F3D91E5F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AB0FC-EE16-4186-AFE5-85E4AF3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2A6F8-2D86-4377-AE71-D1E90861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19942-64A9-4DA9-9970-5EFAC1D7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23F1F-4A2B-4824-B9FB-58D4DCEC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8E706-812E-495E-B297-9EDB628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7B29B-9E45-42C7-A11E-13462618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5A8D-8EDB-4A6C-AFB3-AEDB429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A3D6B-EFFF-440B-87A7-7E271E03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7AD19-5965-4E70-9A6D-3AA85C6C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4F107-FD0C-4C44-BA88-192E9C7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49B4F-3DC7-49D7-AFD1-DDD7359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16EFF-EEF8-4919-9AEE-ADD6B3E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0A171-258F-476A-A889-790FD9CF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0F0A4-6413-41EC-8205-0A93744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FEB59-B6D3-4CCB-BD0A-83E93251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9D60D-6253-4F77-82FF-CDC62E89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18DBC-FE6D-4394-B937-C9535EA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AF5-3756-4A8B-915C-8B4437D7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98EA7-C0C3-4799-8F66-D73FA11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A6412-9D50-49EC-B0D3-FB9CAA1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4A29B-11DB-4C66-B9F5-16A3E92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EE2A3-489C-47D7-AD75-EE6DD1D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C6957-4C27-4804-A725-B6319DD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6D7D4-467B-4410-9239-33C97D1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EBA1C-EBCD-42AA-83D1-705AC1C4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8E190-B1B0-4FED-8033-99D22E6A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398F8-D3E6-4CBE-BF6C-AC604D18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E9CC7-B8D9-4878-9979-70422C20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E298-E8B9-4075-81D0-CF2ABF33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AFEC0-036F-4B25-9265-0551001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D7216-E4FD-4D19-8EDD-5FABD546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BD428-FEF4-4EC3-B6AC-6E1C8875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88C83-2C23-4A41-B232-152C59C1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FB600-5C1E-4E70-94ED-3BD5C0A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0C47A-FCBA-422E-A45D-79DA1FF6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527A4-ECAB-4A24-B8D0-0FD8C68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2DD44-DC95-4760-B0F0-155A022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B62E8-EEDE-466C-937C-642EF7D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AB189-C2CD-4979-9DDF-E7FEB271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A309-1905-477F-A389-F3E7BD49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815C4-5345-49E9-B547-58341123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929AE-0FC7-4016-B6E8-3BF5D154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DF352-069C-4B75-8867-A278D72B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846A4-69D2-4720-9B8B-D246CA41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EC468-219D-4195-86F8-2990E49F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8DD8B-9679-4396-8F44-CA2A4417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B7E6D-973E-462D-B9B8-7B820A5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E9103-FFDA-4E91-89C6-9F2C824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554F9-27DA-4BD0-8E60-2DC2F0C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D5873-6F95-424C-96C3-A9B479A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D4ED-C366-4790-8EF7-A1293A01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9088D-5318-4E12-8268-4F1B537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CB421-7220-4301-BE5C-9C2B2D64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7A73A-CD13-4B2A-B705-523C8B32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5EB5-8231-472B-84DC-F34F6A28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DBEF-B7E5-425E-B5BE-3DDDD57B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39E2-B741-40E3-BB7D-DD3BCB70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9B75-59AE-4A96-B88A-B2E2F27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124-71DC-4AC1-8EFF-26B74B2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367D-315C-4C56-8832-D691794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74E2-F318-42F2-A5CE-6D8EAC7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B975-E2E6-4BF0-BD1E-E119285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EFA1-8DDC-4019-BEB5-58C99DF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F99D-29D5-48E2-A170-DB0ED27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48A5-130F-47D6-82C0-06AD3EF0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54E4-75F6-41C9-92E0-39EBC498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961A-2F05-493E-9BC7-7339EAB7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63E1-D593-481F-BFE2-335DF84F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C18F-8967-45C9-8A4C-7BF2D93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4CA-C95D-4CFC-86D8-5577684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4B5A-655A-4D4C-9D20-C88AFE96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C2D5-05CD-416A-BB85-C05BBF8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6487-8F65-43A7-83BB-275AAE5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C503-3841-4283-89B9-963951B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BF24-3192-4984-A7D3-44E9BE6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73AF8-3F1A-47CC-B056-ECE147C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89BF-9ED3-4E28-966C-AEB15E8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3A4F-59BB-47D5-8ECF-C511D795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0D34-9413-4CFF-9878-E673F77F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9A73-1938-48E4-80CA-96718EF9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BF6-6570-47E1-BEE7-92006EA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E318-5A5C-44C8-8AA5-550548E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A740-D41C-4F46-B66F-282931EC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03F82-A1AB-4BA0-AC44-53BF31A5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6B8A-3FE6-4F91-8660-9BDECE98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A501-7598-4F7D-9C41-9C5FE5B6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5579-F48F-4EB7-9CC5-2C13466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C08D-407B-4A3B-A59A-93B750C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8C91-68B1-4C3E-9590-5B60811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71BD-6435-45CF-921F-1EC82DE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6BEF-FCE9-42A0-9B3F-FD887DC4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94B-63FC-4870-A3F0-DB276F0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7BA0-17C0-4A36-AC9A-1520C78C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2D90-C76F-4468-B9B3-E9FAF2EE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E2A9-3008-4262-AB87-9816A02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840E-F5FC-4DBD-A27A-9B2B262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5DD8-88C4-4926-B58A-05C5456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D188-8F8D-4AB4-A7E1-F1FF963B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B97DE-5BCC-4F9B-AD46-53DD9C3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9D5E8-EC5C-4F37-B62C-C7E7932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6C24-E782-4B8F-BAB0-80ED2BD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43B2-E45F-42A3-B702-CD9043E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205-618E-4DDA-85EF-D77449CE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9D2B-AB57-4398-AD16-7527130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0C181-8C8B-461E-A11D-07B11E75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C379-667B-468E-A986-15321835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FE537-988C-472E-B93A-DC74A906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7FFD-4A8E-4CA3-96DC-FECC7F7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8D86-9F83-4022-A5C0-8F613000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FB2C-5E2A-4BC0-8BA0-84A658DC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43F2-C345-4C0C-BBF7-D45F9A0F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FEC3-66B3-402E-9F93-52D95DEF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77CB-AFC3-4205-8B23-74ABBAB6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1F8-C7F5-45AF-8A6C-68EF047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42334-02ED-41CB-915C-F5FE336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AEDD-8AAE-4895-99D7-2589B8A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BECA-66C3-4C4F-9646-C3CED2EB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FEF5-DA66-4258-9A94-5C26AAFF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C264-9348-491C-837D-C769A74C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5443-7E5D-45B3-8B47-59CDF649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D7CF7-FEF6-4178-A91F-E4F598D8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A57A-3222-457D-A126-03C3E919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FC9B-7B97-4758-ABFF-37A077C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6B9B1-45CC-46D7-9CEA-A260738C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0F0-4774-4CBB-A986-FF6939B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6C37A-BD41-42B1-868B-FBD70AE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BCCDA-2A8C-42ED-9430-895055D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35B64-176C-4D9D-8586-468340A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43699-CE94-4F53-9997-92F6731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5DC1-8B98-4517-AEAA-A7BE31B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DC97-1068-44E2-9B49-CFD6E1CD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35CB7-669D-44F4-B4A6-A689BFFD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13A09-C0D0-46FF-9164-621616EF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9CB0-DB58-45CE-A724-64B9084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D58BE-ADE2-47D0-9AEE-E49BE14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C54-1BD0-486F-B075-252826D7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76DF-563F-4442-9552-706B486C8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27D-523E-4E60-B9FC-88BDB8348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9BB-B694-4B0A-AC85-C958D9F4E7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2DF2-1D71-4860-9302-67EA598BF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4E3-F9C1-4C63-B623-32D98FE9A5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664-D084-48D3-B2D2-027280549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72C-737B-41CE-8156-E7D6A1E06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945-C54A-4897-A7E3-18CF82388A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DC6-760A-4BEB-B91A-BED74E60D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9BE-989C-433C-832F-3A983A4C2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51C6-F1D9-4FDB-B7BC-A77B661DE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921-6379-44A7-808A-95966BF9C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59F-E63B-4963-8B01-A1A416881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992-58F7-45C9-8C56-D8E85C30BD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15C-B5EC-49BD-A282-279A67226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B74-0957-42DA-8324-8265A7D6D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8FB-D579-4C23-B052-BE17C4D00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B5D-A88F-453F-B422-E1DF64C60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E90-8DE3-415E-A846-B0DF9210B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B9E5-2CB8-4D9F-8079-0513AF6AD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05F8-3343-4476-AC0E-039239113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CBD-DDC3-40D3-AC32-2DA2FBBA4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C2C-332A-4300-AD3A-B308E8425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1EF0-9BA4-4ED3-9389-5D9740E23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FD9-7A97-40D0-B667-37B0D9887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3A3-A525-473D-BE26-FAF02C5E6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84EB-26FC-4B5C-AE7E-0C04AFE7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BF1-6A9F-463E-857F-5BA03BEA5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E458-22B3-4BFF-A384-B6978B1F3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9B8A-C212-46CB-95BB-D6E3BEC2E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658-21DC-476B-8641-B5F1F3E4A4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B73-B621-4554-9149-0A7012FA3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31D-29FA-435D-9113-4ABFFDC219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D375-8D68-44DE-9B5B-835019F8A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48CE-C161-43B4-908A-0BC166721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57B2-3A82-4AFD-A955-08790CE382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19D-5FE4-4543-A224-0C26FEC2C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501-6D9D-4557-A8E2-04A30A379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EDA4-B671-4E21-BFA8-DE2294270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0360" y="2610000"/>
            <a:ext cx="89632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1"/>
          <a:stretch/>
        </p:blipFill>
        <p:spPr>
          <a:xfrm>
            <a:off x="371520" y="1125360"/>
            <a:ext cx="8400960" cy="33242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" descr=""/>
          <p:cNvPicPr/>
          <p:nvPr/>
        </p:nvPicPr>
        <p:blipFill>
          <a:blip r:embed="rId2"/>
          <a:stretch/>
        </p:blipFill>
        <p:spPr>
          <a:xfrm>
            <a:off x="755640" y="4500720"/>
            <a:ext cx="7229520" cy="19526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3"/>
          <a:stretch/>
        </p:blipFill>
        <p:spPr>
          <a:xfrm>
            <a:off x="3143160" y="178128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4"/>
          <a:stretch/>
        </p:blipFill>
        <p:spPr>
          <a:xfrm>
            <a:off x="4286160" y="1785960"/>
            <a:ext cx="1357560" cy="315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5"/>
          <a:stretch/>
        </p:blipFill>
        <p:spPr>
          <a:xfrm>
            <a:off x="2122560" y="277344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6"/>
          <a:stretch/>
        </p:blipFill>
        <p:spPr>
          <a:xfrm>
            <a:off x="3214800" y="278136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7"/>
          <a:stretch/>
        </p:blipFill>
        <p:spPr>
          <a:xfrm>
            <a:off x="4286160" y="278136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8"/>
          <a:stretch/>
        </p:blipFill>
        <p:spPr>
          <a:xfrm>
            <a:off x="2449440" y="376884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9"/>
          <a:stretch/>
        </p:blipFill>
        <p:spPr>
          <a:xfrm>
            <a:off x="3525840" y="3768840"/>
            <a:ext cx="1000080" cy="3157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10"/>
          <a:stretch/>
        </p:blipFill>
        <p:spPr>
          <a:xfrm>
            <a:off x="3857760" y="4786200"/>
            <a:ext cx="1000080" cy="3160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11"/>
          <a:stretch/>
        </p:blipFill>
        <p:spPr>
          <a:xfrm>
            <a:off x="3760920" y="5786280"/>
            <a:ext cx="7855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Picture 1" descr=""/>
          <p:cNvPicPr/>
          <p:nvPr/>
        </p:nvPicPr>
        <p:blipFill>
          <a:blip r:embed="rId1"/>
          <a:stretch/>
        </p:blipFill>
        <p:spPr>
          <a:xfrm>
            <a:off x="228600" y="2373480"/>
            <a:ext cx="8686800" cy="2495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2"/>
          <a:stretch/>
        </p:blipFill>
        <p:spPr>
          <a:xfrm>
            <a:off x="836640" y="2778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3"/>
          <a:stretch/>
        </p:blipFill>
        <p:spPr>
          <a:xfrm>
            <a:off x="811080" y="31575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4"/>
          <a:stretch/>
        </p:blipFill>
        <p:spPr>
          <a:xfrm>
            <a:off x="811080" y="37670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5"/>
          <a:stretch/>
        </p:blipFill>
        <p:spPr>
          <a:xfrm>
            <a:off x="811080" y="4186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6"/>
          <a:stretch/>
        </p:blipFill>
        <p:spPr>
          <a:xfrm>
            <a:off x="811080" y="460548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176040" y="1646280"/>
            <a:ext cx="8791920" cy="3943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tretch/>
        </p:blipFill>
        <p:spPr>
          <a:xfrm>
            <a:off x="357120" y="309240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4"/>
          <a:stretch/>
        </p:blipFill>
        <p:spPr>
          <a:xfrm>
            <a:off x="357120" y="379872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5"/>
          <a:stretch/>
        </p:blipFill>
        <p:spPr>
          <a:xfrm>
            <a:off x="357120" y="4521240"/>
            <a:ext cx="8786880" cy="315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6"/>
          <a:stretch/>
        </p:blipFill>
        <p:spPr>
          <a:xfrm>
            <a:off x="357120" y="5240160"/>
            <a:ext cx="878688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1" name="Picture 1" descr=""/>
          <p:cNvPicPr/>
          <p:nvPr/>
        </p:nvPicPr>
        <p:blipFill>
          <a:blip r:embed="rId1"/>
          <a:stretch/>
        </p:blipFill>
        <p:spPr>
          <a:xfrm>
            <a:off x="114480" y="1339920"/>
            <a:ext cx="8915400" cy="46101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2"/>
          <a:stretch/>
        </p:blipFill>
        <p:spPr>
          <a:xfrm>
            <a:off x="1017720" y="4206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3"/>
          <a:stretch/>
        </p:blipFill>
        <p:spPr>
          <a:xfrm>
            <a:off x="992160" y="4586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4"/>
          <a:stretch/>
        </p:blipFill>
        <p:spPr>
          <a:xfrm>
            <a:off x="992160" y="4929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5"/>
          <a:stretch/>
        </p:blipFill>
        <p:spPr>
          <a:xfrm>
            <a:off x="992160" y="5286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6"/>
          <a:stretch/>
        </p:blipFill>
        <p:spPr>
          <a:xfrm>
            <a:off x="992160" y="57150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43400" y="1052640"/>
            <a:ext cx="2257200" cy="247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324000" y="1509840"/>
            <a:ext cx="8391240" cy="4295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328680" y="6126120"/>
            <a:ext cx="8486640" cy="542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971640" y="1857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5316480" y="1857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933480" y="32148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5329080" y="32097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8"/>
          <a:stretch/>
        </p:blipFill>
        <p:spPr>
          <a:xfrm>
            <a:off x="950760" y="45291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123840" y="1960560"/>
            <a:ext cx="8896320" cy="3124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755640" y="23320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30080" y="27115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30080" y="3110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30080" y="3500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730080" y="38577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47600" y="1841400"/>
            <a:ext cx="8848800" cy="1086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476280" y="2960640"/>
            <a:ext cx="8534520" cy="1981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643120" y="2197080"/>
            <a:ext cx="982800" cy="316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3303720" y="2579760"/>
            <a:ext cx="982440" cy="315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155680" y="2928960"/>
            <a:ext cx="982800" cy="315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214720" y="3298680"/>
            <a:ext cx="1442880" cy="316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3127320" y="3672000"/>
            <a:ext cx="98280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481560" y="1424160"/>
            <a:ext cx="2180880" cy="276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324000" y="2649600"/>
            <a:ext cx="7334280" cy="2219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954000" y="29876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928800" y="3367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928800" y="37656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928800" y="4143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928800" y="45007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24040" y="1684440"/>
            <a:ext cx="7495920" cy="4048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1441440" y="2021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1450800" y="27986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1438200" y="3541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1428840" y="42688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1450800" y="50292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114480" y="1247760"/>
            <a:ext cx="8915400" cy="372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2" descr=""/>
          <p:cNvPicPr/>
          <p:nvPr/>
        </p:nvPicPr>
        <p:blipFill>
          <a:blip r:embed="rId2"/>
          <a:stretch/>
        </p:blipFill>
        <p:spPr>
          <a:xfrm>
            <a:off x="468360" y="4992840"/>
            <a:ext cx="7381800" cy="10285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714240" y="1617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714240" y="2760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714240" y="3470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6"/>
          <a:stretch/>
        </p:blipFill>
        <p:spPr>
          <a:xfrm>
            <a:off x="714240" y="4613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7"/>
          <a:stretch/>
        </p:blipFill>
        <p:spPr>
          <a:xfrm>
            <a:off x="714240" y="532764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700200" y="1092240"/>
            <a:ext cx="7743600" cy="3705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" descr=""/>
          <p:cNvPicPr/>
          <p:nvPr/>
        </p:nvPicPr>
        <p:blipFill>
          <a:blip r:embed="rId2"/>
          <a:stretch/>
        </p:blipFill>
        <p:spPr>
          <a:xfrm>
            <a:off x="1116000" y="4896000"/>
            <a:ext cx="6819840" cy="16286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1328760" y="1428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1319040" y="3143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1353960" y="4886280"/>
            <a:ext cx="3607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1157400" y="1052640"/>
            <a:ext cx="6829200" cy="33242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1413000" y="1046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1400040" y="27273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1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